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A06-76FD-4374-BBB2-2B31850B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D3D-A206-4128-92D1-9C7D193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E0E-D40E-4627-911D-50A972D8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C5E-39B6-4E7B-A53D-BD5C5AD5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34E-D73E-4B7B-927B-6CA97B9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FF6-5652-431A-A011-F426D1A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942-D58D-4D0D-8922-06678DBB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B99-3025-44A9-9C2D-8316C9FF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B9B-07FA-401A-996C-A6F83608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BE8-62F4-4325-BC84-1F43EBCE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3AE-7882-4BD6-977C-C94EADE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3B1-9ABE-48CB-80C2-F25865E7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8D35-D10E-4078-8B58-F0D08E89DB0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標楷體"/>
                <a:ea typeface="標楷體"/>
              </a:rPr>
              <a:t>鍋爐與熱泵 系統節能   應  用  技  術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4575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alibri"/>
                <a:ea typeface="標楷體"/>
              </a:rPr>
              <a:t>中 山 大 學 機 械 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alibri"/>
                <a:ea typeface="標楷體"/>
              </a:rPr>
              <a:t>黃      仁      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內容版面配置區 3" descr=""/>
          <p:cNvPicPr/>
          <p:nvPr/>
        </p:nvPicPr>
        <p:blipFill>
          <a:blip r:embed="rId1"/>
          <a:stretch/>
        </p:blipFill>
        <p:spPr>
          <a:xfrm>
            <a:off x="139680" y="-304920"/>
            <a:ext cx="118872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內容版面配置區 3" descr=""/>
          <p:cNvPicPr/>
          <p:nvPr/>
        </p:nvPicPr>
        <p:blipFill>
          <a:blip r:embed="rId1"/>
          <a:stretch/>
        </p:blipFill>
        <p:spPr>
          <a:xfrm>
            <a:off x="393840" y="163440"/>
            <a:ext cx="11569680" cy="66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38080" y="257040"/>
            <a:ext cx="1083816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針對醫院易疏忽之鍋爐效率、冷凝水回收和袪水器的洩漏， 管理和操作上的改善，使整個蒸汽系統更有效率， 進而達到節約能源降低成本。提高鍋爐效率：鍋爐效率好壞直接影響 耗油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量， 新 鍋爐不一定絕對有較高的鍋爐效率，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一部高效率鍋爐不僅 系統設計要好，還須有優良的操作管理人員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鍋爐基本操作參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降低排氣溫度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排氣溫度一般比所產出蒸汽溫度高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-40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溫度太高可能是傳熱面積不足、積垢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&amp;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後燃等，降低排氣溫度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方法有提高熱傳效率或增加熱傳面積，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定期清潔爐膛，加裝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預熱器或節熱器等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注意使燃油霧化良好，避免後燃現象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 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降低排氣溫度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20℃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可節約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1%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燃料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減少排氣含氧量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 理想的鍋爐過剩空氣量，於高負載時，排氣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氧量應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過多的空氣量造成燃料部份熱能為空氣帶走，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含氧量降低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節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燃料。但空氣量不足會造成燃燒不完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排氣冒黑煙等問題， 不完全燃燒可由檢測排氣之一氧化碳含量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判定。排氣含氧量亦隨鍋爐負載有所不同， 燃燒進氣量之調節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應於高負載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火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調降進氣量在最低量， 此進氣量使鍋爐在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低負載變化時，空氣量不會有不足或過大的現象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17400" y="636120"/>
            <a:ext cx="109569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加強保溫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爐體保溫良否直接影響鍋爐效率，保溫正常則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爐體表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平均溫度須不超過室溫</a:t>
            </a:r>
            <a:r>
              <a:rPr b="0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30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鍋爐房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風速及外氣溫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也會影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爐體表面熱散失量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預熱燃油：為提高燃燒效率，必須預熱燃油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降低黏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使其霧化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全，而燃油霧化預熱溫度範圍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20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間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改善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飼水品質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鍋爐水經蒸發濃縮後，爐水中不純物比例增加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常造成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水側管路結垢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腐蝕等問題，鍋爐飼水均須軟化處理或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儘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利用回收之冷凝水做為飼水來改善水質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另如提升飼水溫度也可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低燃料使用量，溫度提升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0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降低燃料量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避免鍋爐低負載運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低負載使爐體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表面熱損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增加，造成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爐效率降低，如常以小火運轉，應考慮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改小燃燒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更換容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較小之鍋爐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使得鍋爐有較佳之效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熱 泵 原 理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7720" y="1476360"/>
            <a:ext cx="106966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5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冷氣機的學名又稱為「熱泵」，利用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壓縮機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熱力循環原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朗肯循環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來產生移動熱能的作用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朗肯循環主要由四個組件構成： 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壓縮機、冷凝器、蒸發器與膨脹閥，內部充滿冷媒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冷媒蒸氣受壓縮機壓縮 產生高溫高壓蒸氣，流入冷凝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排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凝結成冷凝液，經一膨脹閥流入蒸發器內蒸發成蒸氣，而產生吸熱效應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冷氣效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蒸氣再被壓縮機吸入 繼續進行壓縮，構成一循環迴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整個現象是：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熱能在蒸發器處被吸收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然後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在冷凝器處被排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收集與利用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構成一個熱的移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99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使用要點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操作條件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氣溫、濕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性能系數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COP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可靠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能量不滅原理，熱泵在移出熱能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標楷體"/>
                <a:ea typeface="標楷體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過程中，最後被排出並收集應用的熱能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標楷體"/>
                <a:ea typeface="標楷體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會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高於輸入電能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(We)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的好幾倍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約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〜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6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倍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就好像是一部「能量放大機」，因此可以達到節約能源的目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5" descr=""/>
          <p:cNvPicPr/>
          <p:nvPr/>
        </p:nvPicPr>
        <p:blipFill>
          <a:blip r:embed="rId1"/>
          <a:stretch/>
        </p:blipFill>
        <p:spPr>
          <a:xfrm>
            <a:off x="266760" y="0"/>
            <a:ext cx="1148076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內容版面配置區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1129032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1051560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熱泵 熱水器 之優點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244160"/>
            <a:ext cx="1051560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根據台大新能源中心數年協助國內業者開發家用熱泵熱水器，可置於室外，自大氣擷取熱能。此熱泵熱水器的性能測試結果，氣溫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5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時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水吸熱量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耗電量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達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與電熱水器比較相當於減少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5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耗電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假設電熱水器效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0%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與瓦斯熱水器比較，將耗能全轉換成初級能源，較易得知能源節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表示每輸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kW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電能，熱水可以獲得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6kW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加熱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瓦斯熱水器而言，熱水欲獲得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6kW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加熱量， 瓦斯燃燒熱需為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25kW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假設能源效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0%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為發電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kW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 發電廠必須燃燒能源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8kW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台電電網發電效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0.36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故熱泵熱水器比瓦斯或燃油熱水器可以節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6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初級能源。 也就是說，熱泵熱水器確可節約能源，尤其是與電熱器比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省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5%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。如果熱泵熱水器的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可以提高至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上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較大型機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則可比瓦斯熱水器節省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7%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上的能源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內容版面配置區 4" descr=""/>
          <p:cNvPicPr/>
          <p:nvPr/>
        </p:nvPicPr>
        <p:blipFill>
          <a:blip r:embed="rId1"/>
          <a:stretch/>
        </p:blipFill>
        <p:spPr>
          <a:xfrm>
            <a:off x="520560" y="0"/>
            <a:ext cx="1126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內容版面配置區 3" descr=""/>
          <p:cNvPicPr/>
          <p:nvPr/>
        </p:nvPicPr>
        <p:blipFill>
          <a:blip r:embed="rId1"/>
          <a:stretch/>
        </p:blipFill>
        <p:spPr>
          <a:xfrm>
            <a:off x="328680" y="0"/>
            <a:ext cx="114998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內容版面配置區 3" descr=""/>
          <p:cNvPicPr/>
          <p:nvPr/>
        </p:nvPicPr>
        <p:blipFill>
          <a:blip r:embed="rId1"/>
          <a:stretch/>
        </p:blipFill>
        <p:spPr>
          <a:xfrm>
            <a:off x="304920" y="0"/>
            <a:ext cx="1143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熱泵熱水器 熱 源 種 類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333440"/>
            <a:ext cx="105156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依熱源型態可分：空氣源、水源、地熱源及太陽輻射源等四種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氣對空氣取熱型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air-to-water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大氣、冷房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對水取熱型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water-to-wat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調系統冷卻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冰水機廢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製程廢熱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無塵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,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殺菌爐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調冰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冷房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地熱源型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Ground-coupled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地下水、地底熱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太陽輻射源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&amp;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氣熱源型：雙熱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般熱泵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製熱效率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低，視機型、大小別有差異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空氣對水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泵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5-6.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易受外氣溫度影響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水對水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泵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〜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8-6.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受熱水槽及冰水溫度影響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各行業 熱水負荷 估算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031400"/>
            <a:ext cx="10515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泵系統三種應用類型：空調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暖房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、淋浴或洗滌用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以及泳池加溫，各類建物因用途不同可能的應用方式也不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宿舍用熱泵提供人員洗浴熱水；醫院類包含暖房空調、洗滌；旅館飯店類型可能包含三者。熱水負荷量估算有點複雜，不同的場合有不同的熱水負荷需求，以下依宿舍、醫院、飯店類型來說明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宿舍類型：一般僅供淋浴熱水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不考慮盆浴的狀況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熱水溫度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0~55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採用空氣對水熱泵，因宿舍建物空調系統大多不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中央系統，即便為中央系統，冬季也多停轉，若規劃為水對水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統則回收熱源受限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醫院類型：依洗浴熱水及暖房條件、醫院類型、建物規模及空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使用模式來設計，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時營運且空調亦整年供應的條件下，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考慮規劃採用水對水熱泵系統，原因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備利用率高，產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水的熱源來自冰水回水廢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調系統排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因此在熱泵運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時，回水溫度會降低，冰水機負荷亦減輕；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熱水的使用隨季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有變化，冬季熱水用量較大，水對水系統應考慮冬季空調系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排熱量是否足夠產製所需熱水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38080" y="398520"/>
            <a:ext cx="10515600" cy="61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飯店類型：除供應洗浴、暖房外，泳池或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PA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池加溫及恆溫亦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應用熱泵系統。飯店場合多有中央空調冰水系統，負載亦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時，可採水對水熱泵，考慮其供應洗浴時之熱水負荷，有盆浴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況時，每人日使用水量較淋浴狀況為多。若以盆浴條件計算單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使用水量可能達淋浴條件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~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倍，對於熱泵主機容量及儲水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容積設計而言，過大的設備容量表示投資成本高，另外，空間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題也要克服，因此飯店熱泵系統改建規劃應由可用的空間出發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不必依日用水量設置儲水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★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輔助加熱器設計：系統設計時必須考量設備可能經歷保養維修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或故障停機，甚至因氣候造成設備製熱能力不足，需藉由替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源補足熱水供應。案例留用既有設備是常見的作法，既有設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是否堪用，保養維修衍生的費用會影響投資回收年限。若既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備已達年限或不堪用，可考慮換裝小容量設備，或直接於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或增設之儲槽，安裝浸入式電熱器，安裝方便且成本較低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22080"/>
            <a:ext cx="1051560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醫 院 案 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720" y="1434960"/>
            <a:ext cx="111506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醫院安裝熱泵系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約能源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案例很多，以花蓮門諾醫院為例，該醫院改裝前熱水系統如下：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仁愛樓：病床數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44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床，原有熱水儲槽二座共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,00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升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恩慈樓：病床數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38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床，原有熱水儲槽二座共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,50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升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․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平安樓：病床數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43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床，原有熱水儲槽三座共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,00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升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原系統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柴油蒸汽鍋爐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台，交替運轉，平均費用每月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420,0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元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新增熱泵系統 </a:t>
            </a:r>
            <a:r>
              <a:rPr b="1" lang="en-US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仁愛樓：空氣對水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AHP-01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恩慈樓：空氣對水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AHP-02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平安樓：水對水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WHP-020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▇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氣對水熱泵產生空調亦導入配電室、機房使用，節省空調費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對水熱泵與原有冰水主機結合降低冰水主機負荷。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內容版面配置區 3" descr=""/>
          <p:cNvPicPr/>
          <p:nvPr/>
        </p:nvPicPr>
        <p:blipFill>
          <a:blip r:embed="rId1"/>
          <a:stretch/>
        </p:blipFill>
        <p:spPr>
          <a:xfrm>
            <a:off x="71280" y="0"/>
            <a:ext cx="11955600" cy="71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安 養 中 心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333080"/>
            <a:ext cx="105156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台北三芝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XX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會附設安養中心案例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安裝前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柴油熱水鍋爐，因油價上漲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&amp;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購油負擔，改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台「空氣對水式」熱泵供應熱水，既設柴油熱水鍋爐加熱為輔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改善前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月柴油量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,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升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油單價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／公升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月費用約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17,500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改善後 </a:t>
            </a:r>
            <a:r>
              <a:rPr b="1" lang="en-US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空氣對水」熱泵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力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4.1kW);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水輸出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90,000Btu/hr;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冷氣輸出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31,000Btu/hr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水儲槽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8,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升二座，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6,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升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噸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▇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安養中心位於海邊，鹽份高，故該熱泵熱水系統的機組外殻採 高抗腐不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鋼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1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用銅鰭片抗腐蝕，非常適用於鹽份高的氣候， 配管及零配件亦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不鏽鋼，不論耐候性、耐用性、品質要求皆非常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熱泵 性能係數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COP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可達 多少？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8080" y="1358640"/>
            <a:ext cx="105156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泵設計是利用冷媒於蒸發器吸收大氣中或水中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低溫熱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熱能並將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轉換於冷凝器加熱水溫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高溫熱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並同時供應低溫空氣來冷卻、除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達到以低能源輸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Kw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同時供應冰水、冷氣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QE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及熱水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QC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空調性能係數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=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空調能力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QE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壓縮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KW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空調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kW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約可產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kW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冷氣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故一般冷氣的性能係數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而熱泵熱水系統性能係數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=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空調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+1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可達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更高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越高表示效能越好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果在分析熱泵熱水系統的效能時，也考慮所提供額外冰水或冷氣的話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泵熱水系統的總性能係數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t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熱泵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+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空調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OP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）更可達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.6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熱水器的效能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.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而熱泵熱水系統之性能係數可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.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因此可節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相當多的費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冬天 熱泵可供應 足夠熱水嗎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74640" y="1536480"/>
            <a:ext cx="957600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19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無論 空氣對水或水對水熱泵，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熱源的穩定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維持設備效能的重要關鍵，因此在規劃時就應該考慮何處有較豐富的熱源，且該熱源不因季節大幅變動。若無合適熱源應考量替代方案，以空氣對水熱泵而言，設計時加熱的時間與機組容量應考量台灣地區特殊氣候，僅在冬季偶而才有氣溫低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℃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情況發生，故可加大設備容量來縮短加熱時間，或另搭配鍋爐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&amp;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其它輔助加熱設備來彌補偶而之不足，這樣全年便可供應足夠熱水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水垢問題 如何處理？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2000" y="1825200"/>
            <a:ext cx="9804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19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相較於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燃燒方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產生熱水的設備，熱泵主機藉由冷凝器進行熱交換，故熱交換表面溫度較燃燒爐低，相對</a:t>
            </a:r>
            <a:r>
              <a:rPr b="0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結垢也較輕微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但除了表面溫度的因素，</a:t>
            </a: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水質硬度高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也會容易造成結垢，影響設備效能。須定期清刷冷凝器熱交換表面，尤其對採用板式熱交換器之機組。另也可採用物理方式之水質處理設備，可有效防止水垢於熱交換面形成。無論如何，定期清潔維護是最重要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熱 泵 保 養 及 維 修 重 點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053720"/>
            <a:ext cx="10515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日常保養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(A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電路系統保養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電線接點之清潔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電線接線螺絲上緊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檢查電壓、電流是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正常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每年至少檢查一次控制保護裝置設定，修定設定值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清潔：灰塵太多是機械發生動作不正常之原因之一，須經常注意清潔，即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防止故障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季節性檢查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:(A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檢查電氣連接螺絲是否鬆脫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B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接通主電源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C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檢查水管路並清洗管路。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D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清潔機組之灰塵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空氣濾網：空氣濾網因灰塵，油污附著，必需定期保養。正確保養方式是以吸塵器清除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垢、灰塵。在有油污、蒸氣的地方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特別是廚房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，必需安裝鋁質濾網。因鋁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濾網才可以用熱水清潔劑或是清洗機加以清除油污和污垢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4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風扇保養：每六個月在風扇馬達潤滑孔上加潤滑油。不同粘度之潤滑油可導致軸承問題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且不要過度潤滑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5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蒸發器鰭片清洗：蒸發器的灰塵可以吸塵器清除，其他像廚房油污，油漆分子或輕微脫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物可用清潔劑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不含漂白劑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噴灑鰭片加以清洗。在過於髒圬的情況才用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“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蒸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器鰭片專用清洗機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”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清洗。鰭片在清洗後需用清水再加以完全洗刷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內容版面配置區 3" descr=""/>
          <p:cNvPicPr/>
          <p:nvPr/>
        </p:nvPicPr>
        <p:blipFill>
          <a:blip r:embed="rId1"/>
          <a:stretch/>
        </p:blipFill>
        <p:spPr>
          <a:xfrm>
            <a:off x="596880" y="93600"/>
            <a:ext cx="1108728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內容版面配置區 3" descr=""/>
          <p:cNvPicPr/>
          <p:nvPr/>
        </p:nvPicPr>
        <p:blipFill>
          <a:blip r:embed="rId1"/>
          <a:stretch/>
        </p:blipFill>
        <p:spPr>
          <a:xfrm>
            <a:off x="855720" y="0"/>
            <a:ext cx="1104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內容版面配置區 3" descr=""/>
          <p:cNvPicPr/>
          <p:nvPr/>
        </p:nvPicPr>
        <p:blipFill>
          <a:blip r:embed="rId1"/>
          <a:stretch/>
        </p:blipFill>
        <p:spPr>
          <a:xfrm>
            <a:off x="222120" y="0"/>
            <a:ext cx="117698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內容版面配置區 4" descr=""/>
          <p:cNvPicPr/>
          <p:nvPr/>
        </p:nvPicPr>
        <p:blipFill>
          <a:blip r:embed="rId1"/>
          <a:stretch/>
        </p:blipFill>
        <p:spPr>
          <a:xfrm>
            <a:off x="5475240" y="93600"/>
            <a:ext cx="6904080" cy="6764400"/>
          </a:xfrm>
          <a:prstGeom prst="rect">
            <a:avLst/>
          </a:prstGeom>
          <a:ln w="0">
            <a:noFill/>
          </a:ln>
        </p:spPr>
      </p:pic>
      <p:pic>
        <p:nvPicPr>
          <p:cNvPr id="84" name="圖片 5" descr=""/>
          <p:cNvPicPr/>
          <p:nvPr/>
        </p:nvPicPr>
        <p:blipFill>
          <a:blip r:embed="rId2"/>
          <a:stretch/>
        </p:blipFill>
        <p:spPr>
          <a:xfrm>
            <a:off x="0" y="371520"/>
            <a:ext cx="5826240" cy="45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內容版面配置區 3" descr=""/>
          <p:cNvPicPr/>
          <p:nvPr/>
        </p:nvPicPr>
        <p:blipFill>
          <a:blip r:embed="rId1"/>
          <a:stretch/>
        </p:blipFill>
        <p:spPr>
          <a:xfrm>
            <a:off x="685800" y="28440"/>
            <a:ext cx="111078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內容版面配置區 3" descr=""/>
          <p:cNvPicPr/>
          <p:nvPr/>
        </p:nvPicPr>
        <p:blipFill>
          <a:blip r:embed="rId1"/>
          <a:stretch/>
        </p:blipFill>
        <p:spPr>
          <a:xfrm>
            <a:off x="469800" y="0"/>
            <a:ext cx="11379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內容版面配置區 3" descr=""/>
          <p:cNvPicPr/>
          <p:nvPr/>
        </p:nvPicPr>
        <p:blipFill>
          <a:blip r:embed="rId1"/>
          <a:stretch/>
        </p:blipFill>
        <p:spPr>
          <a:xfrm>
            <a:off x="546120" y="0"/>
            <a:ext cx="1136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內容版面配置區 3" descr=""/>
          <p:cNvPicPr/>
          <p:nvPr/>
        </p:nvPicPr>
        <p:blipFill>
          <a:blip r:embed="rId1"/>
          <a:stretch/>
        </p:blipFill>
        <p:spPr>
          <a:xfrm>
            <a:off x="711360" y="0"/>
            <a:ext cx="110617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內容版面配置區 3" descr=""/>
          <p:cNvPicPr/>
          <p:nvPr/>
        </p:nvPicPr>
        <p:blipFill>
          <a:blip r:embed="rId1"/>
          <a:stretch/>
        </p:blipFill>
        <p:spPr>
          <a:xfrm>
            <a:off x="380880" y="0"/>
            <a:ext cx="1149372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內容版面配置區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4T01:50:26Z</dcterms:created>
  <dc:creator>HJJ</dc:creator>
  <dc:description/>
  <dc:language>en-US</dc:language>
  <cp:lastModifiedBy>HJJ</cp:lastModifiedBy>
  <dcterms:modified xsi:type="dcterms:W3CDTF">2020-06-13T07:44:34Z</dcterms:modified>
  <cp:revision>56</cp:revision>
  <dc:subject/>
  <dc:title>鍋爐與熱泵 系統節能   應  用  技  術</dc:title>
</cp:coreProperties>
</file>